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B0D-3487-459D-A6AE-9CA18C6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CFB-76C2-48CE-B1F9-A14CA92D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47A-F34E-47BF-BE4E-9F1C2BDB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736-BBE3-49D2-8C8E-F3A82F28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EDE-4CB8-4BA2-8175-D2CDDF0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E25-C00C-4BB6-B3F7-3CFCAFBA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BDB-63AE-422D-A72D-3C24B32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3B1-366E-4717-9A1A-2C5FC0C7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69F-AEAE-4F98-88EF-3EDE23D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D65-57B2-44BD-86D8-03605CE5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EEF-7DCB-4CF6-AF4E-9F85659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671-9098-42DD-BBA9-DBB26D1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141-C3DD-4C29-BA14-737731595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7960" y="1219320"/>
            <a:ext cx="566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fo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69644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96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4924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q = 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324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66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67053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3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620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761976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332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1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2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8487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8001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6248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3152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09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848720" cy="32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772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10T04:14:13Z</dcterms:modified>
  <cp:revision>216</cp:revision>
  <dc:subject/>
  <dc:title>Slide 1</dc:title>
</cp:coreProperties>
</file>